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7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450-54B5-48C1-AD6A-0DCB83E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B1-02F6-485E-8C22-414C362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077-B35C-41BC-A454-EF67A4E1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141-24E1-4CC3-974D-D6AC1C4B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59B-E80D-4296-957E-6ACB47D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B6E-50F7-4F20-BAFA-0BB28AD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6D8-BB13-4FCF-91C0-B49650A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959-32C6-4BAB-B325-D3E864E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BD0-F551-4920-A544-5E22E32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322-4FF1-43F5-AF4D-BBC0D6D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7FF-70D2-4011-BFD4-6724C3E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D7C-1A17-459A-BCF8-F68EC33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4F25-AB1C-45D8-B6DA-AC592A12F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ver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Sunday morning, then there will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at chu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people at church, then it is Sun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6, 30, 24, 18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990720" y="15238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   PBS and    SBG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   PBS +      SBG=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12"/>
          <p:cNvSpPr/>
          <p:nvPr/>
        </p:nvSpPr>
        <p:spPr>
          <a:xfrm flipV="1">
            <a:off x="2438280" y="1676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13"/>
          <p:cNvSpPr/>
          <p:nvPr/>
        </p:nvSpPr>
        <p:spPr>
          <a:xfrm>
            <a:off x="251460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14"/>
          <p:cNvSpPr/>
          <p:nvPr/>
        </p:nvSpPr>
        <p:spPr>
          <a:xfrm flipV="1">
            <a:off x="4114800" y="1676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5"/>
          <p:cNvSpPr/>
          <p:nvPr/>
        </p:nvSpPr>
        <p:spPr>
          <a:xfrm>
            <a:off x="41911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6"/>
          <p:cNvSpPr/>
          <p:nvPr/>
        </p:nvSpPr>
        <p:spPr>
          <a:xfrm flipV="1">
            <a:off x="3733920" y="25142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7"/>
          <p:cNvSpPr/>
          <p:nvPr/>
        </p:nvSpPr>
        <p:spPr>
          <a:xfrm>
            <a:off x="3809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8"/>
          <p:cNvSpPr/>
          <p:nvPr/>
        </p:nvSpPr>
        <p:spPr>
          <a:xfrm flipV="1">
            <a:off x="518148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9"/>
          <p:cNvSpPr/>
          <p:nvPr/>
        </p:nvSpPr>
        <p:spPr>
          <a:xfrm>
            <a:off x="5257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 Barak O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57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8380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not go on a diet, then you should not lose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990720" y="106668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I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go on a diet, then you should lose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828800" y="289548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5, -1, 2, -4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HP and LR form a righ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HP     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6"/>
          <p:cNvSpPr/>
          <p:nvPr/>
        </p:nvSpPr>
        <p:spPr>
          <a:xfrm>
            <a:off x="2743200" y="2133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7"/>
          <p:cNvSpPr/>
          <p:nvPr/>
        </p:nvSpPr>
        <p:spPr>
          <a:xfrm>
            <a:off x="3962520" y="2133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8"/>
          <p:cNvSpPr/>
          <p:nvPr/>
        </p:nvSpPr>
        <p:spPr>
          <a:xfrm>
            <a:off x="4648320" y="297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9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10"/>
          <p:cNvSpPr/>
          <p:nvPr/>
        </p:nvSpPr>
        <p:spPr>
          <a:xfrm>
            <a:off x="5410080" y="2895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y Cy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2481120" y="1047600"/>
            <a:ext cx="418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trapositi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Sunday morning, then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be people at chu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not people at church, then it is not Sunday mo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 conje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 is perpendicular to J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90720" y="228600"/>
            <a:ext cx="708660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6858000" y="3200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j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id/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lebrity Ba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dition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hypothesis and conclu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wants to see an elepha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y should go to the zo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90720" y="15228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s: If a person wants to see an 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They should go to the 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May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M.A.S.H.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3063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5088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lose weight, then you go on a di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1828800" y="129528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ind the Conver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go on a diet, then you should lose w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ke a conjecture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next term in the seq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d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514600" y="3200400"/>
            <a:ext cx="838080" cy="838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581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648320" y="3200400"/>
            <a:ext cx="838080" cy="838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   TMS and    RXY are congru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S and    RXY are adjacent ang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5"/>
          <p:cNvSpPr/>
          <p:nvPr/>
        </p:nvSpPr>
        <p:spPr>
          <a:xfrm flipV="1">
            <a:off x="2514600" y="1523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17"/>
          <p:cNvSpPr/>
          <p:nvPr/>
        </p:nvSpPr>
        <p:spPr>
          <a:xfrm>
            <a:off x="259092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27"/>
          <p:cNvSpPr/>
          <p:nvPr/>
        </p:nvSpPr>
        <p:spPr>
          <a:xfrm flipV="1">
            <a:off x="4267080" y="1599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28"/>
          <p:cNvSpPr/>
          <p:nvPr/>
        </p:nvSpPr>
        <p:spPr>
          <a:xfrm>
            <a:off x="43434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29"/>
          <p:cNvSpPr/>
          <p:nvPr/>
        </p:nvSpPr>
        <p:spPr>
          <a:xfrm flipV="1">
            <a:off x="1371600" y="2819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30"/>
          <p:cNvSpPr/>
          <p:nvPr/>
        </p:nvSpPr>
        <p:spPr>
          <a:xfrm>
            <a:off x="14479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31"/>
          <p:cNvSpPr/>
          <p:nvPr/>
        </p:nvSpPr>
        <p:spPr>
          <a:xfrm flipV="1">
            <a:off x="3124080" y="28191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32"/>
          <p:cNvSpPr/>
          <p:nvPr/>
        </p:nvSpPr>
        <p:spPr>
          <a:xfrm>
            <a:off x="3200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ce Know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46864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Write in if-then form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students that play in the band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n instr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in the band, then you must have an instr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ley with tongue to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5238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18288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1337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1"/>
          <p:cNvSpPr/>
          <p:nvPr/>
        </p:nvSpPr>
        <p:spPr>
          <a:xfrm>
            <a:off x="17096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2"/>
          <p:cNvSpPr/>
          <p:nvPr/>
        </p:nvSpPr>
        <p:spPr>
          <a:xfrm rot="8037000">
            <a:off x="1634760" y="3655440"/>
            <a:ext cx="304560" cy="228600"/>
          </a:xfrm>
          <a:custGeom>
            <a:avLst/>
            <a:gdLst>
              <a:gd name="textAreaLeft" fmla="*/ 152280 w 304560"/>
              <a:gd name="textAreaRight" fmla="*/ 304920 w 3045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  <a:lnTo>
                  <a:pt x="152400" y="114300"/>
                </a:lnTo>
                <a:close/>
              </a:path>
              <a:path fill="none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3048120" y="3124080"/>
            <a:ext cx="106668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3352680" y="3352680"/>
            <a:ext cx="15264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6"/>
          <p:cNvSpPr/>
          <p:nvPr/>
        </p:nvSpPr>
        <p:spPr>
          <a:xfrm>
            <a:off x="323388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4956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1055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46814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5867280" y="3124080"/>
            <a:ext cx="106704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617220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6053040" y="3713040"/>
            <a:ext cx="704880" cy="158760"/>
          </a:xfrm>
          <a:custGeom>
            <a:avLst/>
            <a:gdLst/>
            <a:ahLst/>
            <a:rect l="l" t="t" r="r" b="b"/>
            <a:pathLst>
              <a:path w="704088" h="160020">
                <a:moveTo>
                  <a:pt x="0" y="0"/>
                </a:moveTo>
                <a:cubicBezTo>
                  <a:pt x="92202" y="75438"/>
                  <a:pt x="184404" y="150876"/>
                  <a:pt x="301752" y="155448"/>
                </a:cubicBezTo>
                <a:cubicBezTo>
                  <a:pt x="419100" y="160020"/>
                  <a:pt x="561594" y="93726"/>
                  <a:pt x="704088" y="27432"/>
                </a:cubicBezTo>
              </a:path>
            </a:pathLst>
          </a:custGeom>
          <a:solidFill>
            <a:srgbClr val="ffffe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25"/>
          <p:cNvSpPr/>
          <p:nvPr/>
        </p:nvSpPr>
        <p:spPr>
          <a:xfrm rot="3655200">
            <a:off x="5083920" y="3708000"/>
            <a:ext cx="304920" cy="228600"/>
          </a:xfrm>
          <a:custGeom>
            <a:avLst/>
            <a:gdLst>
              <a:gd name="textAreaLeft" fmla="*/ 152640 w 304920"/>
              <a:gd name="textAreaRight" fmla="*/ 305280 w 30492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  <a:lnTo>
                  <a:pt x="152400" y="114300"/>
                </a:lnTo>
                <a:close/>
              </a:path>
              <a:path fill="none" w="304800" h="228600">
                <a:moveTo>
                  <a:pt x="152400" y="0"/>
                </a:moveTo>
                <a:lnTo>
                  <a:pt x="152400" y="0"/>
                </a:lnTo>
                <a:arcTo wR="152400" hR="114300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: m   DOR is 135 and the m   PSZ is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jecture:    DOR and     PSV are supplem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14"/>
          <p:cNvSpPr/>
          <p:nvPr/>
        </p:nvSpPr>
        <p:spPr>
          <a:xfrm flipV="1">
            <a:off x="251460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15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16"/>
          <p:cNvSpPr/>
          <p:nvPr/>
        </p:nvSpPr>
        <p:spPr>
          <a:xfrm flipV="1">
            <a:off x="6095880" y="2514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17"/>
          <p:cNvSpPr/>
          <p:nvPr/>
        </p:nvSpPr>
        <p:spPr>
          <a:xfrm>
            <a:off x="6172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18"/>
          <p:cNvSpPr/>
          <p:nvPr/>
        </p:nvSpPr>
        <p:spPr>
          <a:xfrm flipV="1">
            <a:off x="2438280" y="3352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9"/>
          <p:cNvSpPr/>
          <p:nvPr/>
        </p:nvSpPr>
        <p:spPr>
          <a:xfrm>
            <a:off x="25146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20"/>
          <p:cNvSpPr/>
          <p:nvPr/>
        </p:nvSpPr>
        <p:spPr>
          <a:xfrm flipV="1">
            <a:off x="4343400" y="3352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1"/>
          <p:cNvSpPr/>
          <p:nvPr/>
        </p:nvSpPr>
        <p:spPr>
          <a:xfrm>
            <a:off x="4419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ley Tis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905120" y="1106640"/>
            <a:ext cx="533376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beasoa</cp:lastModifiedBy>
  <cp:lastPrinted>2001-01-31T16:21:13Z</cp:lastPrinted>
  <dcterms:modified xsi:type="dcterms:W3CDTF">2011-09-19T14:41:52Z</dcterms:modified>
  <cp:revision>9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